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A38FA-FCBC-4C7A-B5ED-D829E56C1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000B5-74D7-4DD9-84B0-EFD58390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E5094-0210-4B30-8D3A-B35B022D5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60F21-DF16-44F9-B6CA-8AEC76743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C70F7-F06D-417B-BF03-31B7ACDFC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8931-7424-4304-A109-A29DA134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ABB07-9687-46F8-97DE-9FB6F0E37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1EBFE-17EC-4C61-A380-4E99EBB5A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B672B-5BF4-48D6-A4B6-9078B3624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B3F3B-ADAA-4AB8-8CF4-E9E05AE71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96719-49AA-463A-AF4F-9EB4EEE33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DA6A-D873-4EB1-A034-3BCC236A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AD704-DFE8-4510-96F9-A953C39F9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8A65C-DA93-4990-9F9B-CBFC1BCE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25736-632C-4EA0-8052-BC0295AC2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2222E-D4D2-4838-A1FE-3AC298AD6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457A8-C656-4BE5-A289-DD421F56F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FE5873-4DD7-4837-93E2-EC826432A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2417D-4DF2-4EC3-BAF8-E42DB881A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C589E-45F3-4ED8-91A3-673B3C502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F4FE9-279D-4BCB-B14B-3A61B5DD0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55031-C1BD-427D-86C6-C9249DD58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2F885-F019-4622-8429-11DC03195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CCE70-0385-4605-8CA9-F58F42C8E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715E4-E33A-48B2-96E8-20A603418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81262-7102-4E2D-B280-A2C706614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F5355-131F-4DF1-90FC-AD68E11DA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3AD39-EFE1-4175-AAB2-5CA6A2EBC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D5A96-6680-4BA0-9014-294A3AE9A3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667EB2-DCFA-4A72-ACFF-637928F45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5448E-EE08-46A9-A556-A98A938E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D0F5-5504-42F3-9929-826CC27C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849FE-3C08-4C5F-9FB1-6190DD75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B5AD-6121-4D99-9F17-BA4E9558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2ECB-DC9F-442E-97A2-EC4D92D3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9A7D-3CDB-4103-8054-1F1DF15D8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3AA5-E926-47A1-9467-E4DC3CD6A3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776D-B859-4ACA-9B97-A7F33CB56B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F042-4E8C-4664-9572-814631FCE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mployment in the Federal Sector for People with Disabilities</a:t>
            </a:r>
            <a:endParaRPr b="0" lang="en-US" sz="2200" spc="-1" strike="noStrike">
              <a:solidFill>
                <a:srgbClr val="006666"/>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rnell University / AAPD Forum – March 21, 2008</a:t>
            </a:r>
            <a:endParaRPr b="0" lang="en-US" sz="18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D3EAA88C-0DD5-4601-A5E6-ACFFABEA9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1AC8113-849B-4024-BAC7-FC9CAEBCC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22B7C56-ED7D-42F1-9C01-9DFA40A818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5D505EAE-B90A-43F8-84CA-5C544EEAFA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A491A426-A7FF-4225-91FE-A816DCFEA6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C032234B-8667-49E8-B074-1EC662325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86"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4D45A08-17AE-4564-9F8B-10CDDFEBF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89"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0"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0567E0FF-F0A1-46DF-B1AA-CD73DD3F1C2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9E2F76CF-7FD2-40E6-A814-AEF2757749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5F5A138-3D2E-4AAB-B9B4-7F9F818571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D18C2D30-7EA2-4A61-9B24-FB39738043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4CB359C-AAC3-4FBB-9DF2-36D83E172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6"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7"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673DC253-DBB0-4DD7-8C13-6C394A2CE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70B12B5E-726C-4E0D-80FB-1F1E6B49E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1AAAF875-CBA1-41E2-A7E3-2D9E146B2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078A4696-52AD-429F-A60F-ADA941E71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3-19T18:39:50Z</dcterms:modified>
  <cp:revision>7</cp:revision>
  <dc:subject/>
  <dc:title>LEAD: Leadership for the Employment of Americans with Disabilities</dc:title>
</cp:coreProperties>
</file>