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FBFD1B-9593-4C9F-A448-4FBB678C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a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C23E-E6AB-4931-B563-D781D47EA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6982-DDCA-4F51-AD0B-2DB8C1911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CFBB-A95A-4316-8595-88E4E8EF1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215A-E137-486C-B473-CCE92F811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9012-8795-4197-A72E-157399126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23C3-C2B9-4610-B57B-F10CF59C6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40B1-C641-46C6-A85E-FE0592DF0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1504-B4FF-4B26-8453-36195488A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5720" y="-360"/>
            <a:ext cx="74689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F4D6-13E9-4954-BF37-1C2180E31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A341-17E9-40C2-A4E1-C540C199D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D4F1-1334-4700-B8A7-1F9520FA1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9155-6BFD-41D1-B023-7BBFF7A83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686800" y="6596280"/>
            <a:ext cx="4572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0b1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CF2-EE5F-4626-86DA-6E8DBF80D05E}" type="slidenum">
              <a:rPr b="0" lang="en-US" sz="1100" spc="-1" strike="noStrike">
                <a:solidFill>
                  <a:srgbClr val="b0b1b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81480" y="6553080"/>
            <a:ext cx="350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b0b1b3"/>
                </a:solidFill>
                <a:latin typeface="Arial"/>
              </a:rPr>
              <a:t>	</a:t>
            </a:r>
            <a:fld id="{A19BECFD-4AA4-4689-A3FE-0527E273AC55}" type="datetime3">
              <a:rPr b="0" lang="en-US" sz="1100" spc="-1" strike="noStrike">
                <a:solidFill>
                  <a:srgbClr val="b0b1b3"/>
                </a:solidFill>
                <a:latin typeface="Arial"/>
              </a:rPr>
              <a:t>July 29, 20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062760"/>
            <a:ext cx="22096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3280" indent="-23328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58920" indent="-23184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9876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98760" indent="-2224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98760" indent="-2224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  <a:p>
            <a:pPr lvl="1" marL="457200" indent="-10944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00240" indent="-17316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42960" indent="-1666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42960" indent="-1666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42960" indent="-1666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ff7ff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eff7ff"/>
                </a:solidFill>
                <a:latin typeface="Times New Roman"/>
              </a:rPr>
              <a:t>Department of Homeland Security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31240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0b1b3"/>
                </a:solidFill>
                <a:latin typeface="Arial"/>
              </a:rPr>
              <a:t>Increasing Employment of Individuals   with Disabilities</a:t>
            </a:r>
            <a:endParaRPr b="0" lang="en-US" sz="2400" spc="-1" strike="noStrike">
              <a:solidFill>
                <a:srgbClr val="b0b1b3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0b1b3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5486400"/>
            <a:ext cx="368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Department of Homeland Security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7ff"/>
                </a:solidFill>
                <a:latin typeface="Arial"/>
              </a:rPr>
              <a:t>DHS is committed to integrating people with disabilities into the homeland security effort</a:t>
            </a: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In The Beginning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7ff"/>
                </a:solidFill>
                <a:latin typeface="Arial"/>
              </a:rPr>
              <a:t>November 25, 2002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: President Bush signed the Homeland Security Act into law.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7ff"/>
                </a:solidFill>
                <a:latin typeface="Arial"/>
              </a:rPr>
              <a:t>March 1, 2003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: Transfer of 22 agencies to form the Department of Homeland Security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74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June, 2003: DHS entered a partnership with the Department of Defense’s Computer and Electronic Assistance Program (“CAP Program”) to provide assistive technologies to employees with disabilities</a:t>
            </a:r>
            <a:r>
              <a:rPr b="0" lang="en-US" sz="2500" spc="-1" strike="noStrike">
                <a:solidFill>
                  <a:srgbClr val="eff7ff"/>
                </a:solidFill>
                <a:latin typeface="Arial"/>
              </a:rPr>
              <a:t>.  </a:t>
            </a:r>
            <a:endParaRPr b="0" lang="en-US" sz="25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Top Level Suppor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Secretarial Memorandum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75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7ff"/>
                </a:solidFill>
                <a:latin typeface="Arial"/>
              </a:rPr>
              <a:t>February 17, 2004</a:t>
            </a:r>
            <a:endParaRPr b="0" lang="en-US" sz="18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75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7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ff7ff"/>
                </a:solidFill>
                <a:latin typeface="Arial"/>
              </a:rPr>
              <a:t>July 25, 2005</a:t>
            </a:r>
            <a:endParaRPr b="0" lang="en-US" sz="18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Meetings with National Disability Rights Advocates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Meetings with Under Secretar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Appointment of Selective Placement Coordinators (SPC)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DHS Commitmen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Created the Listserv to widely disseminate DHS headquarters vacanc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Established DHS Disability Employment and Accessibility Council (DEAC)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eveloped Partnership with Disability Network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Leveraged Component Activit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evelopment of Component Strategic Plan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Accomplishment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Trained Managers and Supervisors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Hired interns hired, 2 offered full-time employment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received electronic accommodations from CAP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honored by CAP as a Model Large Employer for People With Disabilitie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71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ff7ff"/>
                </a:solidFill>
                <a:latin typeface="Arial"/>
              </a:rPr>
              <a:t>CAP Award</a:t>
            </a:r>
            <a:r>
              <a:rPr b="0" i="1" lang="en-US" sz="1900" spc="-1" strike="noStrike">
                <a:solidFill>
                  <a:srgbClr val="eff7ff"/>
                </a:solidFill>
                <a:latin typeface="Arial"/>
              </a:rPr>
              <a:t>: Real Solutions for Real Needs</a:t>
            </a:r>
            <a:endParaRPr b="0" lang="en-US" sz="19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Highest number of mentors from a non-DOD agency participating in National Disability Mentoring Day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Accomplishment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Participated in the pilot that launched DOD’s Operation Warfighter (OWF)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-233280"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DHS commitment to OWF 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marL="233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oint of Contac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Tanya Cantrell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Office for Civil Rights and Civil Liberties</a:t>
            </a:r>
            <a:br>
              <a:rPr sz="2400"/>
            </a:b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U.S. Department of Homeland Security </a:t>
            </a:r>
            <a:br>
              <a:rPr sz="2400"/>
            </a:b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(202) 357-8181 Voice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(202) 357-8341  FAX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233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ff7ff"/>
                </a:solidFill>
                <a:latin typeface="Arial"/>
              </a:rPr>
              <a:t>(202) 357-8352 TTY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HS</cp:lastModifiedBy>
  <dcterms:modified xsi:type="dcterms:W3CDTF">2006-09-12T21:49:34Z</dcterms:modified>
  <cp:revision>91</cp:revision>
  <dc:subject/>
  <dc:title>PowerPoint Presentation</dc:title>
</cp:coreProperties>
</file>