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BE6A68-2939-412A-A3BB-ED58B5C8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a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B956-4B1A-4B2F-80F3-4DBBDE266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432B-453E-4DDB-9CCF-4B7C141FB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0DB8-25DE-416B-BDF9-8676D4BDD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E844-0C07-40C3-8237-1C5D19F29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8C30-699D-4ED3-A8E6-428EC1E93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3091-A4A1-4532-B4A5-800A2DD40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6F02-C5FB-4864-83D3-BFC192CC5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7CB5-D678-486B-BD0E-8E6B5BCC3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853A-A3FC-42E2-BE61-FAA3B4B3C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149A-7CCC-4EB1-A6C6-46F7E4411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1E1F-923D-4627-9D9D-780555DA0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687F-860F-444C-ABBF-8A8F4C6C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686800" y="6596280"/>
            <a:ext cx="457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0b1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E33-B9F9-4144-8B52-339B5BFB8872}" type="slidenum">
              <a:rPr b="0" lang="en-US" sz="1100" spc="-1" strike="noStrike">
                <a:solidFill>
                  <a:srgbClr val="b0b1b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81480" y="6553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b0b1b3"/>
                </a:solidFill>
                <a:latin typeface="Arial"/>
              </a:rPr>
              <a:t>	</a:t>
            </a:r>
            <a:fld id="{63C5B090-ACFE-4BCD-AAE7-AE15A0A2CC85}" type="datetime3">
              <a:rPr b="0" lang="en-US" sz="1100" spc="-1" strike="noStrike">
                <a:solidFill>
                  <a:srgbClr val="b0b1b3"/>
                </a:solidFill>
                <a:latin typeface="Arial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062760"/>
            <a:ext cx="22096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3280" indent="-23328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58920" indent="-23184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9876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  <a:p>
            <a:pPr lvl="1" marL="457200" indent="-10944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00240" indent="-17316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42960" indent="-1666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42960" indent="-1666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42960" indent="-1666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ff7ff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3124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b3"/>
                </a:solidFill>
                <a:latin typeface="Arial"/>
              </a:rPr>
              <a:t>Increasing Employment of Individuals   with Disabilities</a:t>
            </a:r>
            <a:endParaRPr b="0" lang="en-US" sz="2400" spc="-1" strike="noStrike">
              <a:solidFill>
                <a:srgbClr val="b0b1b3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b1b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5486400"/>
            <a:ext cx="368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DHS is committed to integrating people with disabilities into the homeland security effort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In The Beginning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7ff"/>
                </a:solidFill>
                <a:latin typeface="Arial"/>
              </a:rPr>
              <a:t>November 25, 2002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: President Bush signed the Homeland Security Act into law.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7ff"/>
                </a:solidFill>
                <a:latin typeface="Arial"/>
              </a:rPr>
              <a:t>March 1, 2003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: Transfer of 22 agencies to form the Department of Homeland Security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74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June, 2003: DHS entered a partnership with the Department of Defense’s Computer and Electronic Assistance Program (“CAP Program”) to provide assistive technologies to employees with disabilities</a:t>
            </a:r>
            <a:r>
              <a:rPr b="0" lang="en-US" sz="2500" spc="-1" strike="noStrike">
                <a:solidFill>
                  <a:srgbClr val="eff7ff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Top Level Suppor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Secretarial Memorandum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75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February 17, 2004</a:t>
            </a:r>
            <a:endParaRPr b="0" lang="en-US" sz="1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75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July 25, 2005</a:t>
            </a:r>
            <a:endParaRPr b="0" lang="en-US" sz="1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Meetings with National Disability Rights Advocates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Meetings with Under Secretar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Appointment of Selective Placement Coordinators (SPC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HS Commitmen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Created the Listserv to widely disseminate DHS headquarters vacanc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Established DHS Disability Employment and Accessibility Council (DEAC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eveloped Partnership with Disability Network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Leveraged Component Activit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evelopment of Component Strategic Plan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Accomplishment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Trained Managers and Supervisors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Hired interns hired, 2 offered full-time employment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received electronic accommodations from CAP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honored by CAP as a Model Large Employer for People With Disabilit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71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ff7ff"/>
                </a:solidFill>
                <a:latin typeface="Arial"/>
              </a:rPr>
              <a:t>CAP Award</a:t>
            </a:r>
            <a:r>
              <a:rPr b="0" i="1" lang="en-US" sz="1900" spc="-1" strike="noStrike">
                <a:solidFill>
                  <a:srgbClr val="eff7ff"/>
                </a:solidFill>
                <a:latin typeface="Arial"/>
              </a:rPr>
              <a:t>: Real Solutions for Real Needs</a:t>
            </a:r>
            <a:endParaRPr b="0" lang="en-US" sz="19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Highest number of mentors from a non-DOD agency participating in National Disability Mentoring Day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Accomplishment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Participated in the pilot that launched DOD’s Operation Warfighter (OWF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commitment to OWF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oint of Contac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Tanya Cantrell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Office for Civil Rights and Civil Liberties</a:t>
            </a:r>
            <a:br>
              <a:rPr sz="2400"/>
            </a:b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U.S. Department of Homeland Security </a:t>
            </a:r>
            <a:br>
              <a:rPr sz="2400"/>
            </a:b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181 Voice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341  FAX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352 TTY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HS</cp:lastModifiedBy>
  <dcterms:modified xsi:type="dcterms:W3CDTF">2006-09-12T21:49:34Z</dcterms:modified>
  <cp:revision>91</cp:revision>
  <dc:subject/>
  <dc:title>PowerPoint Presentation</dc:title>
</cp:coreProperties>
</file>