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DE4342-9A72-476B-A952-452136B96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insert this slide into your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this template as a presentation (.ppt file) on your compu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the presentation that will contain the quote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b, place your insertion point after the slide that will precede the quote slide. (Make sure you don't select a slide. Your insertion point should be between the slides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enu, clic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s from Fi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Fin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alog box, click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d Pres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w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locate and select the presentation that contains the quote slide, and then clic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s from Fi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alog box, select the quote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ep source format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heck box. If you do not select this check box, the copied slide will inherit the design of the slide that precedes it in the presen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543-87CA-44EF-86BF-71E00828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65B-273C-4B20-A44D-53E548F6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49FE-E323-4D6C-AFFD-CB709C24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AD3-0EF7-4B4E-912D-8EB48FC6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65E7-02BA-4771-92E0-83F88850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DA42-5AC9-40ED-B9BF-94DA46D7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0C52-A0AF-4610-9849-9764D93E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87CE-D3AC-4855-B603-A681C05C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3461-708D-495E-81C7-906A4240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5015-4FB9-464F-81A3-5081B1BC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E3C4-F3DA-4F42-901E-FAA0A379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731-5722-4444-9C56-749C3A55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2BC9-D006-434F-B6E2-2D43EF49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6272-0273-4B99-99A0-067FEB03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55AA-EFB4-48DD-96AF-50801B50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DD26-4F2F-47B6-87D3-816A1401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7F55-D3C1-409F-89D6-1D23E2B4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2E67-64D4-4355-A88B-AA53491E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0C1-6D99-44EA-8D7B-FCF6DC86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32D4-CB5F-4BF9-B91A-6D12E912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DEA-0BFF-4273-B166-05181C28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DE49-AD18-41BD-8C5C-EB47B0A6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708B-A8E4-432B-9959-A8B1B2A3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63F-12D0-4F50-81DC-1047383D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C540-BEBE-490A-848C-0582BB015DA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72C6-9B8D-40CE-BD4B-FC4DCF2D881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1676160"/>
            <a:ext cx="851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Have I done for You lately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6400800"/>
            <a:ext cx="4572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04920" y="5410080"/>
            <a:ext cx="383544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uiding Princip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y Marketing princip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stomer needs and wa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st of the Progra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venience of Pro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39117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cation is the one that will help you the m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treach to internal custom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GENDA – Advisory Group on Employment and Disability Advocac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ager trai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rsonal vis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920" y="5715000"/>
            <a:ext cx="36828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cations to External Custom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ocacy Partn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abled Veterans Group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turning Service Memb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ransition Assistance Programs (TAP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peration War Figh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itary Severely Injured Cen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L – Representativ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2280" y="5867280"/>
            <a:ext cx="36831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 Partn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RN – Employment Assistance and Recruiting Net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nder Consulting, Inc. – Think outside the box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e-Stops – Located inside employment offices at the local leve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vision of Rehabilitation Offic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368316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have Resumes – Now Wha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1240" y="1734840"/>
            <a:ext cx="766152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ésumés where do they come from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o do I go t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do you go to your manager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y do I go at al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28600" y="5715000"/>
            <a:ext cx="368316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69960" y="2249640"/>
            <a:ext cx="7662960" cy="34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600200"/>
            <a:ext cx="8229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y goal is meeting my customer’s needs economically and conveniently and with effective communic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368316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47680" y="2432160"/>
            <a:ext cx="68468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ahoma"/>
              </a:rPr>
              <a:t>Success is not final, failure is not fatal: it is the courage to continue that coun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22960" y="4451400"/>
            <a:ext cx="252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Winston Church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5:56:01Z</dcterms:created>
  <dc:creator>DHS</dc:creator>
  <dc:description/>
  <dc:language>en-US</dc:language>
  <cp:lastModifiedBy>DHS</cp:lastModifiedBy>
  <dcterms:modified xsi:type="dcterms:W3CDTF">2006-09-12T21:53:26Z</dcterms:modified>
  <cp:revision>9</cp:revision>
  <dc:subject/>
  <dc:title>Slide 1</dc:title>
</cp:coreProperties>
</file>