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25F7AED-6C23-4013-B854-ABFC3B15D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insert this slide into your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ve this template as a presentation (.ppt file) on your compu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the presentation that will contain the quote sl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ab, place your insertion point after the slide that will precede the quote slide. (Make sure you don't select a slide. Your insertion point should be between the slides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enu, click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s from Fil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 Fin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alog box, click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d Present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a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w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locate and select the presentation that contains the quote slide, and then click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s from Fil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alog box, select the quote sl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ep source formatt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heck box. If you do not select this check box, the copied slide will inherit the design of the slide that precedes it in the presen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F54E-1C07-440E-BF39-867D8414A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6526-F267-4145-8642-7C271EBF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122C-FC02-48BC-AF7D-D85EB2AA4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0684-58FA-4B4E-98F5-BA1C69A11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9C41-4173-4F55-8115-20647DFD2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DBDF-4E2C-444C-BB41-382E031D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AB62-9751-4EE7-AD88-DDA8234B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4638-484C-4DD5-BE01-A23AFBD9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6B03-F310-4799-A243-8FADAE6A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6569-C716-40BC-9499-95E0AF1D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9D12-58C8-4F7A-99E5-AFD123C1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CFCD-8B45-4BD7-A274-AE78E3C9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189A-B3D7-4390-B381-21FB54CA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7A91-1AF3-4FEE-ADA2-5EC02847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DAD3-898B-436F-872A-EF703937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1E52-BF71-4B22-965F-7CF6A760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550A-EEF9-4590-9566-015FDAF4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F2F9-4CE1-4CFF-9707-038BB8D2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326A-72A7-4E81-B026-72A7F6BC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ABED-37E1-4F29-B87D-C98F6875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F7AF-2C24-4E6D-A93B-9309634B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6EE8-06D6-44FE-B9C4-491089FB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1B1A-ECF2-402C-B733-8FCA3EE8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0438-46F1-4365-989B-4B9199B9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99E5-8ADE-43DF-BFC4-E9AB440B9A7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2CA0-E68D-4956-8D30-5A978932A8D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1676160"/>
            <a:ext cx="851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Have I done for You lately?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6400800"/>
            <a:ext cx="4572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04920" y="5410080"/>
            <a:ext cx="3835440" cy="11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uiding Princip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y Marketing princip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stomer needs and wa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st of the Program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venience of Progr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unic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5867280"/>
            <a:ext cx="39117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mmunic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unication is the one that will help you the mo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utreach to internal custom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GENDA – Advisory Group on Employment and Disability Advocacy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nager train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rsonal visi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04920" y="5715000"/>
            <a:ext cx="36828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mmunic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unications to External Custom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vocacy Partn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sabled Veterans Group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turning Service Memb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ransition Assistance Programs (TAP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peration War Figh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itary Severely Injured Cen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L – Representativ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52280" y="5867280"/>
            <a:ext cx="36831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mmunic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ther Partn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ARN – Employment Assistance and Recruiting Networ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nder Consulting, Inc. – Think outside the box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ne-Stops – Located inside employment offices at the local leve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vision of Rehabilitation Offic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52280" y="5791320"/>
            <a:ext cx="368316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 have Resumes – Now Wha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41240" y="1734840"/>
            <a:ext cx="766152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ésumés where do they come from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o do I go to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do you go to your manager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y do I go at all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28600" y="5715000"/>
            <a:ext cx="368316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69960" y="2249640"/>
            <a:ext cx="7662960" cy="34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600200"/>
            <a:ext cx="82296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y goal is meeting my customer’s needs economically and conveniently and with effective communic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368316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47680" y="2432160"/>
            <a:ext cx="684684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Tahoma"/>
              </a:rPr>
              <a:t>Success is not final, failure is not fatal: it is the courage to continue that coun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22960" y="4451400"/>
            <a:ext cx="252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Winston Church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5:56:01Z</dcterms:created>
  <dc:creator>DHS</dc:creator>
  <dc:description/>
  <dc:language>en-US</dc:language>
  <cp:lastModifiedBy>DHS</cp:lastModifiedBy>
  <dcterms:modified xsi:type="dcterms:W3CDTF">2006-09-12T21:53:26Z</dcterms:modified>
  <cp:revision>9</cp:revision>
  <dc:subject/>
  <dc:title>Slide 1</dc:title>
</cp:coreProperties>
</file>