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2320" y="705960"/>
            <a:ext cx="4703760" cy="35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7760" y="4470120"/>
            <a:ext cx="56703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9388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014360" y="8938800"/>
            <a:ext cx="3070440" cy="4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C366-27E4-4638-A778-17D159071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7760" y="4470120"/>
            <a:ext cx="56703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raging: inside your agency learn the many layers of your role and how you can leverage another source of applicants that have talent and may not be on the rad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raging from outside your agency: Use the CoP to discuss agency hiring processes develop a “Model Plan” and put it on the CoP as in the resource sec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model plan to help you reach out to applicants, hr, and mangers, vr- to build a stronger more focused system of hiring people with disabilities at your agency that will meet their need for tal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ELSE CAN YOU FIND TALENT? Universities, EARN PROGRAM Workforce Recruitment Program WRP, Ticket to Work Program-Social Security, Veterans Voc Rehab. Bright, strong, well-trained soldiers who have been injured in the Middle E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65E-74DD-46A2-AD88-D0A0C143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83616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611-0576-4862-8AE4-7D8B3E6E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028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93E-452A-4F85-85FC-D6EF8394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48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80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48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80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F72-5841-4B31-9309-09292010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BF68-0BDC-4816-A847-16A990ED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271B-85ED-4A84-B3F0-6104BB0B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5870-6E69-464B-9B26-787DE208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E50C-5671-40BD-9A0A-6933BB7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3AF8-95F0-4C55-9A08-B7159BD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3850-EB95-4C54-B7EE-22BE6DAC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AA33-A60D-419F-8F78-00F8F2D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BE8-8E3E-4AC8-8453-010D7757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2028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0BAA-130C-4C59-8B3F-2291C665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19A7-BC9E-4262-8F64-9518695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383616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D902-CDD9-49ED-90AF-22DB58B5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2028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59D5-F3BE-4A66-A322-A9F273A3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48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80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48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80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D022-38DD-4BBE-AF50-310178C7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AEA-7E81-4B3A-AD1A-5E356888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5F1-075F-4561-953E-AA9F6AE6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95E-71E1-45A0-A5E4-2D750B89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7C2-A81C-42C7-80B1-9B817A94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988-225B-45F8-941B-59213EC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028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887-7609-4E17-8C1E-41EBE0A3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2A8-3094-4D51-903B-13F006A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16992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16992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5D2E-D380-4CD1-B440-AA81B40CB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5417"/>
          <a:stretch/>
        </p:blipFill>
        <p:spPr>
          <a:xfrm>
            <a:off x="0" y="0"/>
            <a:ext cx="73836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84600" y="4975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AFFD-1940-4477-84E1-4B94C7713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rcRect l="0" t="0" r="0" b="4144"/>
          <a:stretch/>
        </p:blipFill>
        <p:spPr>
          <a:xfrm>
            <a:off x="3429000" y="0"/>
            <a:ext cx="2279520" cy="211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43200" y="33526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9840" indent="0" algn="ctr"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768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876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9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9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 T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90920" y="53244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Schedul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e the Right Tal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65760" y="5410080"/>
            <a:ext cx="51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TED STATES OFFICE OF PERSONNEL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91440" y="4929120"/>
            <a:ext cx="1289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1922400"/>
            <a:ext cx="6476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fill out survey before you le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need alternative format, please ask someone here at the seminar to assist you or we can provide you one electron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ty.Kobert@OPM.GO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18240" y="4419720"/>
            <a:ext cx="162576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ping into Roles and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Hi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ng with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Community of Practice (C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of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 Support of Hi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Personnel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Employment Opportunity Com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Labor/ Office of Disability Employment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Education/Vocational Rehabilitation (VR) Employer and Business Development Networ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Defense/ Computer/Electronic Accommodation Program (C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M revised Schedule A to simplify the process for Federal agencies to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of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ion of Job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11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e Hiring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everage an underutilized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do when you receive a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you should develop contacts with Vocational Rehabilitativ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ng with Manag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ing Managers about the Schedule A talent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ing gaps with talent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ot just about hiring people with disabilities, it’s about hiring people with talent using Schedul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ommunity of Practice (C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you in touch with each other through a password protecte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gency 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 for disability-relate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ag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0"/>
            <a:ext cx="8458200" cy="6858000"/>
          </a:xfrm>
          <a:prstGeom prst="rect">
            <a:avLst/>
          </a:prstGeom>
          <a:solidFill>
            <a:srgbClr val="6e75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y Ko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bility Employment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Office of Personne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y.Kobert@OPM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OPM.GOV/DI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124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8:30:01Z</dcterms:created>
  <dc:creator>Kitty Kobert</dc:creator>
  <dc:description/>
  <dc:language>en-US</dc:language>
  <cp:lastModifiedBy>OPM</cp:lastModifiedBy>
  <dcterms:modified xsi:type="dcterms:W3CDTF">2006-09-25T20:38:01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1522310</vt:r8>
  </property>
  <property fmtid="{D5CDD505-2E9C-101B-9397-08002B2CF9AE}" pid="3" name="_AuthorEmail">
    <vt:lpwstr>Kitty.Kobert@opm.gov</vt:lpwstr>
  </property>
  <property fmtid="{D5CDD505-2E9C-101B-9397-08002B2CF9AE}" pid="4" name="_AuthorEmailDisplayName">
    <vt:lpwstr>Kobert, Kitty R.</vt:lpwstr>
  </property>
  <property fmtid="{D5CDD505-2E9C-101B-9397-08002B2CF9AE}" pid="5" name="_EmailEntryID">
    <vt:lpwstr>00000000566C99A597DDD311950E00008348EB79070015AFE52BC671D311950200008348EB7900000082E10E0000C74C046755C9A744A149ED70F79FD096000001DB04E70000</vt:lpwstr>
  </property>
  <property fmtid="{D5CDD505-2E9C-101B-9397-08002B2CF9AE}" pid="6" name="_EmailStoreID">
    <vt:lpwstr>0000000038A1BB1005E5101AA1BB08002B2A56C20000454D534D44422E444C4C00000000000000001B55FA20AA6611CD9BC800AA002FC45A0C000000574443564558565332002F6F3D4F504D2F6F753D5452422F636E3D526563697069656E74732F636E3D524B4B4F4245525400</vt:lpwstr>
  </property>
  <property fmtid="{D5CDD505-2E9C-101B-9397-08002B2CF9AE}" pid="7" name="_EmailSubject">
    <vt:lpwstr>Kitty Kobert 09-27-06 WEB FINAL.ppt</vt:lpwstr>
  </property>
  <property fmtid="{D5CDD505-2E9C-101B-9397-08002B2CF9AE}" pid="8" name="_ReviewCycleID">
    <vt:r8>727146049</vt:r8>
  </property>
</Properties>
</file>