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8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2320" y="705960"/>
            <a:ext cx="470376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7760" y="4470120"/>
            <a:ext cx="5670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938800"/>
            <a:ext cx="307008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014360" y="8938800"/>
            <a:ext cx="3070440" cy="4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7A1F-7522-412F-99E7-5416C461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92320" y="70632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70120"/>
            <a:ext cx="56703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ing: inside your agency learn the many layers of your role and how you can leverage another source of applicants that have talent and may not be on the rad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ing from outside your agency: Use the CoP to discuss agency hiring processes develop a “Model Plan” and put it on the CoP as in the resource sec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model plan to help you reach out to applicants, hr, and mangers, vr- to build a stronger more focused system of hiring people with disabilities at your agency that will meet their need for tal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ELSE CAN YOU FIND TALENT? Universities, EARN PROGRAM Workforce Recruitment Program WRP, Ticket to Work Program-Social Security, Veterans Voc Rehab. Bright, strong, well-trained soldiers who have been injured in the Middle E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B6E-9AF2-4FD2-AABB-F5D63ECA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EA1-8FD7-45D9-88C7-F2A806A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C07-F724-4180-9451-AC61BA48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48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80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48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80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0CF-FB0D-4670-9475-8DB86087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689-7B83-4D41-874D-A49FE800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BBB-1CD5-4904-A450-DE8F176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CDEF-5E5B-440A-B174-6296AEC9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64A6-419C-49BB-9D35-3123823E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6F6B-52CA-4BBF-B122-C198881A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58FB-E365-425C-8FB2-A3DE8F8E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5EC-B36E-4546-B4D2-598E92A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513-1AC1-4745-8E3C-C87B2FE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300-C835-4BA7-81E0-74851512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FC21-E2F1-4F75-A0FD-8AC0561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1E2-79F3-4DAC-B00B-1513681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48FD-BF03-4CAC-80B7-6B3DDF80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48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8000" y="14479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48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8000" y="383616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C27-4B95-41F1-9596-4EDBF80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2C-E317-41FC-B675-A116EE0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66E-7B66-49D8-8486-119C042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E24-C3F6-4B84-A744-B88A711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818-5DD0-476E-A9D9-12D1845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183-3A1D-4D4A-9157-B4968810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0280" y="383616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AA8-CA6F-42E3-97C5-20F0230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0280" y="14479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83616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194-798B-4FBC-88FC-FF894490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16992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68320" indent="-1695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678-BD2E-4E38-A94F-4BC23D7B7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5417"/>
          <a:stretch/>
        </p:blipFill>
        <p:spPr>
          <a:xfrm>
            <a:off x="0" y="0"/>
            <a:ext cx="73836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4600" y="497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7DC-6B76-4344-BA61-EDAD49DD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0" t="0" r="0" b="4144"/>
          <a:stretch/>
        </p:blipFill>
        <p:spPr>
          <a:xfrm>
            <a:off x="3429000" y="0"/>
            <a:ext cx="22795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33526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9840" indent="0"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768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98760" algn="ctr">
              <a:lnSpc>
                <a:spcPct val="11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98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Til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0920" y="53244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chedul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e the Right Tal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65760" y="5410080"/>
            <a:ext cx="510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ED STATES OFFICE OF PERSONNEL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91440" y="4929120"/>
            <a:ext cx="1289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19224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ill out survey before you le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alternative format, please ask someone here at the seminar to assist you or we can provide you one electron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ty.Kobert@OPM.GO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18240" y="4419720"/>
            <a:ext cx="162576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ping into Roles and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 Hi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ng with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mmunity of Practice (C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o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Support of Hi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Personne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Employment Opportunity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Labor/ Office of Disability Employment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Education/Vocational Rehabilitation (VR) Employer and Business Development Networ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Defense/ Computer/Electronic Accommodation Program (C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M revised Schedule A to simplify the process for Federal agencie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of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3280">
              <a:lnSpc>
                <a:spcPct val="11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 of Job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11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e Hiring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everage an underutilized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 when you receive a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you should develop contacts with Vocational Rehabilitativ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ng with Manag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ing Managers about the Schedule A talent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ing gaps with talent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just about hiring people with disabilities, it’s about hiring people with talent using Schedu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ommunity of Practice (C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 in touch with each other through a password protecte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gency conta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 for disability-relate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ag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0"/>
            <a:ext cx="8458200" cy="6858000"/>
          </a:xfrm>
          <a:prstGeom prst="rect">
            <a:avLst/>
          </a:prstGeom>
          <a:solidFill>
            <a:srgbClr val="6e75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y Ko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bility Employment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Office of Perso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y.Kobert@OPM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OPM.GOV/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124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8:30:01Z</dcterms:created>
  <dc:creator>Kitty Kobert</dc:creator>
  <dc:description/>
  <dc:language>en-US</dc:language>
  <cp:lastModifiedBy>OPM</cp:lastModifiedBy>
  <dcterms:modified xsi:type="dcterms:W3CDTF">2006-09-25T20:38:0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1522310</vt:r8>
  </property>
  <property fmtid="{D5CDD505-2E9C-101B-9397-08002B2CF9AE}" pid="3" name="_AuthorEmail">
    <vt:lpwstr>Kitty.Kobert@opm.gov</vt:lpwstr>
  </property>
  <property fmtid="{D5CDD505-2E9C-101B-9397-08002B2CF9AE}" pid="4" name="_AuthorEmailDisplayName">
    <vt:lpwstr>Kobert, Kitty R.</vt:lpwstr>
  </property>
  <property fmtid="{D5CDD505-2E9C-101B-9397-08002B2CF9AE}" pid="5" name="_EmailEntryID">
    <vt:lpwstr>00000000566C99A597DDD311950E00008348EB79070015AFE52BC671D311950200008348EB7900000082E10E0000C74C046755C9A744A149ED70F79FD096000001DB04E70000</vt:lpwstr>
  </property>
  <property fmtid="{D5CDD505-2E9C-101B-9397-08002B2CF9AE}" pid="6" name="_EmailStoreID">
    <vt:lpwstr>0000000038A1BB1005E5101AA1BB08002B2A56C20000454D534D44422E444C4C00000000000000001B55FA20AA6611CD9BC800AA002FC45A0C000000574443564558565332002F6F3D4F504D2F6F753D5452422F636E3D526563697069656E74732F636E3D524B4B4F4245525400</vt:lpwstr>
  </property>
  <property fmtid="{D5CDD505-2E9C-101B-9397-08002B2CF9AE}" pid="7" name="_EmailSubject">
    <vt:lpwstr>Kitty Kobert 09-27-06 WEB FINAL.ppt</vt:lpwstr>
  </property>
  <property fmtid="{D5CDD505-2E9C-101B-9397-08002B2CF9AE}" pid="8" name="_ReviewCycleID">
    <vt:r8>727146049</vt:r8>
  </property>
</Properties>
</file>