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944D00-C28D-4AB9-BA12-7AFB2A39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ing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514-872A-4334-A2A7-2305379E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5E6-EF6B-464B-A904-CC33153B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DC8-4665-4BF4-950B-BCC1A033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1FE-A4F3-481B-A5F2-1CE88FE0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B99E-7C6A-44C5-8831-DA20131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5B50-8C5D-41CF-8963-41E7DF5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1BF-9994-4017-A9F8-B56D598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CA4-D6F9-459A-9E20-EDE2D88C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DC3D-135A-457C-889B-F9842B3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23D0-1DF3-4050-99B3-08A2B0E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422-59B5-45DE-BFBA-7643AE6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584-E1A5-444E-9922-F6BA227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A2A4-D837-488B-8723-8CDBC33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C89-5991-47A3-97DE-EAC489D0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8AF-7414-406C-92D1-389B824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355-E963-4ACC-B42D-B9475EF7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3390-4C33-4E03-8556-FE1D0B9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3D6-08A3-4453-9174-B4B8167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625-6DC9-461C-B10C-2E57B09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C05-C4FE-45C4-845F-A5DCD4E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EC9-39B4-49DA-ACD1-6C1E6D4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D1-48D1-453D-A967-B496A07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186-0B91-465B-9077-F8C81CFE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06E-0FC5-4F05-97D4-220DED24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399-4D09-48A1-B8EE-C507DE617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5417"/>
          <a:stretch/>
        </p:blipFill>
        <p:spPr>
          <a:xfrm>
            <a:off x="0" y="0"/>
            <a:ext cx="73836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4600" y="497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C54-1CC5-4AA9-9252-78F0AD985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0" t="0" r="0" b="4144"/>
          <a:stretch/>
        </p:blipFill>
        <p:spPr>
          <a:xfrm>
            <a:off x="3429000" y="0"/>
            <a:ext cx="22795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352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9840" indent="0"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ichael.Mahoney@opm.gov" TargetMode="External"/><Relationship Id="rId2" Type="http://schemas.openxmlformats.org/officeDocument/2006/relationships/hyperlink" Target="mailto:Dede.Dessommes@opm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0920" y="29124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CEPTED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OINTMENT OF PERSONS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5410080"/>
            <a:ext cx="49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03480" y="3394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B31-FA4B-45AE-BB3B-4920CD8D7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4840" y="5410080"/>
            <a:ext cx="49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03480" y="3394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6320" y="3730680"/>
            <a:ext cx="271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CEPTED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OINTMENT OF PERSONS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BEA-7754-4A2D-9789-C56796373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ed Service Appoint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ed by Statute, Executive Order, or OP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M’s Governmentwide excepted authorities listed under Schedule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ublic notice required by O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ime in grade required by O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920-CB38-4740-81E3-5ABF3C254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ed Service Appoint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Cannot use traditional examining methods and not subject to OPM qualifications</a:t>
            </a:r>
            <a:r>
              <a:rPr b="0" lang="en-US" sz="2400" spc="-1" strike="noStrike">
                <a:solidFill>
                  <a:srgbClr val="cb37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Attorneys, Presidential Management Fellows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B –  Can not hold open competition and must meet OPM qualifications (e.g., Student Education Employment Program, Federal Career Intern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C – Political appoin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973-AC9E-4C95-AE19-966A01F0D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published in Federal Register on July 26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to appointment of persons with severe physical disabilities, mental retardation, or psychiatric dis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the Federal Government’s ability to hire persons with these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remove barriers and increase employment opportunities for these indiv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C08-D313-4D0F-8FCE-6F0F170F2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er certifying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censed medical professional (e.g., a physician or other medical professional certified by a State, the District of Columbia, or a U.S. territory to practice medic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censed vocational rehabilitation specialist (i.e., State or priv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Federal agency, State agency, or agency of the District of Columbia or a U.S. territory that issues or provides disability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5D7-DC87-4425-854A-FCE5BE50EB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 (continued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u) now replaces the following three Schedule A appointing auth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t) (mental retar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u) (severe physical dis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gg) (psychiatric dis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856-D6C3-4546-92D4-4E9D03B5E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 (continued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the following employment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ry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limited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t 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distinctions between proof of disability and certification of job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s noncompetitive conversion to competitive service upon two years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893-DA1E-432E-81C9-1DF2FCB3DB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Proced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by Department of Veterans Affairs or State Vocational Rehabilitative Services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279-82F0-427D-A38B-28563F032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ichael.Mahoney@opm.gov</a:t>
            </a:r>
            <a:r>
              <a:rPr b="0" lang="en-US" sz="2400" spc="-1" strike="noStrike">
                <a:solidFill>
                  <a:srgbClr val="4aabb2"/>
                </a:solidFill>
                <a:latin typeface="Times New Roman"/>
              </a:rPr>
              <a:t> – (202) 606-1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ede.Dessommes@opm.gov</a:t>
            </a:r>
            <a:r>
              <a:rPr b="0" lang="en-US" sz="2400" spc="-1" strike="noStrike">
                <a:solidFill>
                  <a:srgbClr val="4aabb2"/>
                </a:solidFill>
                <a:latin typeface="Times New Roman"/>
              </a:rPr>
              <a:t> – (202) 606-2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B4D-C431-45CA-8D67-18D11225C7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8:30:01Z</dcterms:created>
  <dc:creator>Eileen Kessler</dc:creator>
  <dc:description/>
  <dc:language>en-US</dc:language>
  <cp:lastModifiedBy>OPM User</cp:lastModifiedBy>
  <dcterms:modified xsi:type="dcterms:W3CDTF">2006-09-25T19:56:49Z</dcterms:modified>
  <cp:revision>3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525174</vt:r8>
  </property>
  <property fmtid="{D5CDD505-2E9C-101B-9397-08002B2CF9AE}" pid="3" name="_AuthorEmail">
    <vt:lpwstr>Dede.Dessommes@opm.gov</vt:lpwstr>
  </property>
  <property fmtid="{D5CDD505-2E9C-101B-9397-08002B2CF9AE}" pid="4" name="_AuthorEmailDisplayName">
    <vt:lpwstr>Dessommes, Dede M.</vt:lpwstr>
  </property>
  <property fmtid="{D5CDD505-2E9C-101B-9397-08002B2CF9AE}" pid="5" name="_EmailSubject">
    <vt:lpwstr>Sch A Reg - Revised Power Point Slides</vt:lpwstr>
  </property>
  <property fmtid="{D5CDD505-2E9C-101B-9397-08002B2CF9AE}" pid="6" name="_PreviousAdHocReviewCycleID">
    <vt:r8>972588356</vt:r8>
  </property>
</Properties>
</file>