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9984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962160" y="0"/>
            <a:ext cx="303372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701640" y="4405320"/>
            <a:ext cx="5594400" cy="41702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805600"/>
            <a:ext cx="303372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962160" y="8805600"/>
            <a:ext cx="303372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0C3ACB0C-5A98-4ED9-9756-A1EC7EB25E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701640" y="4405320"/>
            <a:ext cx="5594400" cy="41702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tion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701640" y="4405320"/>
            <a:ext cx="5594400" cy="41702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ing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8376-8CA1-451C-9935-5FDCF49FB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DC83-9480-4BDD-BDF4-4EB3D3E4E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D105-3B39-4FC6-B39A-AAD933301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8105-BDBF-40C7-AE80-9F19EAEE0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A190A-278A-4D92-A884-0B1BB62BC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165B7-19F6-466C-AA16-AABB5AFE5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3E46E-E642-4500-B2F8-3994CAF9F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DF3D5-077D-46C2-BB53-40DB1E216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A74B6-8C06-4793-A742-3D5350470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2819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3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5B2DF-58A4-44B2-A2D8-02E3DFB53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066A1-AE20-46F3-8795-717B7B72D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7615-783F-4B61-9BEA-C095EEA84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6D500-FE68-43E9-BC41-175BBB035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8B150-FA1A-4B93-A42E-853D8E396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4B5BF-929E-40DA-BCD4-C41EED7F0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7F824-274E-4819-B54B-3AD5D289C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AB1C3-3CB5-428C-A339-5A6DDC4E9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89BC-2933-4CAB-9D48-ADC97E653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0F66-7292-4E34-993C-DA9CACECF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BF93-50B4-4E66-9760-70229FE62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2819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3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5546-F704-465C-ACE6-B84A860E5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F4E4-2EE2-43C3-BAEF-BF050A4F4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220B-90EC-441D-B014-6789E085D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B6CB-DB55-4592-8628-6BB6D1CA0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320" y="45684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71600" y="1447920"/>
            <a:ext cx="7315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lnSpc>
                <a:spcPct val="11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33280">
              <a:lnSpc>
                <a:spcPct val="11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2960" indent="-169920">
              <a:lnSpc>
                <a:spcPct val="11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17600" indent="-169920">
              <a:lnSpc>
                <a:spcPct val="11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768320" indent="-169560">
              <a:lnSpc>
                <a:spcPct val="11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768320" indent="-169560">
              <a:lnSpc>
                <a:spcPct val="11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768320" indent="-169560">
              <a:lnSpc>
                <a:spcPct val="11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86780-3722-4290-9555-DD0D88EB79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rcRect l="0" t="0" r="0" b="5417"/>
          <a:stretch/>
        </p:blipFill>
        <p:spPr>
          <a:xfrm>
            <a:off x="0" y="0"/>
            <a:ext cx="738360" cy="6858000"/>
          </a:xfrm>
          <a:prstGeom prst="rect">
            <a:avLst/>
          </a:prstGeom>
          <a:ln w="0">
            <a:noFill/>
          </a:ln>
        </p:spPr>
      </p:pic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584600" y="497520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304920" y="5257800"/>
            <a:ext cx="1066680" cy="10666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527D3-0045-4064-AD78-9E14F0BA93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1828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4"/>
          <a:srcRect l="0" t="0" r="0" b="4144"/>
          <a:stretch/>
        </p:blipFill>
        <p:spPr>
          <a:xfrm>
            <a:off x="3429000" y="0"/>
            <a:ext cx="2279520" cy="21146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743200" y="335268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339840" indent="0" algn="ctr">
              <a:lnSpc>
                <a:spcPct val="11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11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147680" algn="ctr">
              <a:lnSpc>
                <a:spcPct val="110000"/>
              </a:lnSpc>
              <a:spcAft>
                <a:spcPts val="601"/>
              </a:spcAft>
              <a:buClr>
                <a:srgbClr val="000000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598760" algn="ctr">
              <a:lnSpc>
                <a:spcPct val="11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5987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5987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mailto:Michael.Mahoney@opm.gov" TargetMode="External"/><Relationship Id="rId2" Type="http://schemas.openxmlformats.org/officeDocument/2006/relationships/hyperlink" Target="mailto:Dede.Dessommes@opm.gov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eport Tile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2590920" y="291240"/>
            <a:ext cx="6553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XCEPTED SERVIC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PPOINTMENT OF PERSONS WITH DISAB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364840" y="5410080"/>
            <a:ext cx="490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UNITED STATES OFFICE OF PERSONNEL MANAGEMEN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7291440" y="4929120"/>
            <a:ext cx="1289160" cy="12891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203480" y="3394080"/>
            <a:ext cx="7026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D83E2-960C-496B-84D3-59A7DE7D989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eport Tile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2364840" y="5410080"/>
            <a:ext cx="490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UNITED STATES OFFICE OF PERSONNEL MANAGEMEN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7291440" y="4929120"/>
            <a:ext cx="1289160" cy="12891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1203480" y="3394080"/>
            <a:ext cx="7026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6320" y="3730680"/>
            <a:ext cx="271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362320" y="0"/>
            <a:ext cx="63244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XCEPTED SERVIC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PPOINTMENT OF PERSONS WITH DISAB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4BD31-ED52-4194-AFFE-669B2A73E4D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cepted Service Appointing Author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371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lnSpc>
                <a:spcPct val="11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pted by Statute, Executive Order, or OPM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11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M’s Governmentwide excepted authorities listed under Schedules A, B,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11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public notice required by O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11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time in grade required by O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0">
              <a:lnSpc>
                <a:spcPct val="11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B47E-C4FC-4A12-B51E-C9A14397A8F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92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cepted Service Appointing Author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295280"/>
            <a:ext cx="81536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573120" indent="0">
              <a:lnSpc>
                <a:spcPct val="110000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33280">
              <a:lnSpc>
                <a:spcPct val="11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 A – Cannot use traditional examining methods and not subject to OPM qualifications</a:t>
            </a:r>
            <a:r>
              <a:rPr b="0" lang="en-US" sz="2400" spc="-1" strike="noStrike">
                <a:solidFill>
                  <a:srgbClr val="cb374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e.g., Attorneys, Presidential Management Fellows Progra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33280">
              <a:lnSpc>
                <a:spcPct val="11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 B –  Can not hold open competition and must meet OPM qualifications (e.g., Student Education Employment Program, Federal Career Intern Progra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33280">
              <a:lnSpc>
                <a:spcPct val="11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 C – Political appoint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5957-E8FC-4A30-BD2F-C82A8DDD901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92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 A – Appointment of Persons with Disabi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78487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lnSpc>
                <a:spcPct val="11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ulation published in Federal Register on July 26,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11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es to appointment of persons with severe physical disabilities, mental retardation, or psychiatric disabilit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11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s the Federal Government’s ability to hire persons with these disab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11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igned to remove barriers and increase employment opportunities for these individua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98E0-8276-470A-9857-37482D5C591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92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 A – Appointment of Persons with Disabi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295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0680" indent="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 Regul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0680" indent="-22068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ader certifying entit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1600" indent="-22860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licensed medical professional (e.g., a physician or other medical professional certified by a State, the District of Columbia, or a U.S. territory to practice medicin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1600" indent="-22860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licensed vocational rehabilitation specialist (i.e., State or privat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1600" indent="-22860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Federal agency, State agency, or agency of the District of Columbia or a U.S. territory that issues or provides disability benef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3A45-6D4F-4E8A-9AA0-2AF3FAA83DC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92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 A – Appointment of Persons with Disabi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848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0">
              <a:lnSpc>
                <a:spcPct val="11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 Regulation (continued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11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 CFR 213.3102 (u) now replaces the following three Schedule A appointing authorit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33280">
              <a:lnSpc>
                <a:spcPct val="11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 CFR 213.3102 (t) (mental retard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33280">
              <a:lnSpc>
                <a:spcPct val="11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 CFR 213.3102 (u) (severe physical disabiliti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33280">
              <a:lnSpc>
                <a:spcPct val="11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 CFR 213.3102 (gg) (psychiatric disabiliti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0">
              <a:lnSpc>
                <a:spcPct val="110000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0">
              <a:lnSpc>
                <a:spcPct val="11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2CEC-CA02-4745-B369-C45CE76414C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92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 A – Appointment of Persons with Disabi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848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3840" indent="0">
              <a:lnSpc>
                <a:spcPct val="11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 Regulation (continued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3840" indent="-213840">
              <a:lnSpc>
                <a:spcPct val="11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rifies the following employment op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4320" indent="-221400">
              <a:lnSpc>
                <a:spcPct val="11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mporary appointme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4320" indent="-221400">
              <a:lnSpc>
                <a:spcPct val="11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me limited appointme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4320" indent="-221400">
              <a:lnSpc>
                <a:spcPct val="11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manent appoint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3840" indent="-213840">
              <a:lnSpc>
                <a:spcPct val="11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rifies distinctions between proof of disability and certification of job read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3840" indent="-213840">
              <a:lnSpc>
                <a:spcPct val="11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ains noncompetitive conversion to competitive service upon two years 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8777-1705-4AF9-ADBB-BCF24F108DB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92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 A – Appointment of Persons with Disabi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848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lnSpc>
                <a:spcPct val="11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ious Procedur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33280">
              <a:lnSpc>
                <a:spcPct val="11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rtified by Department of Veterans Affairs or State Vocational Rehabilitative Services Ag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0">
              <a:lnSpc>
                <a:spcPct val="11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13FF-60A9-4211-8402-35604C2D15D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45684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estion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848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lnSpc>
                <a:spcPct val="110000"/>
              </a:lnSpc>
              <a:spcBef>
                <a:spcPts val="1199"/>
              </a:spcBef>
              <a:spcAft>
                <a:spcPts val="1199"/>
              </a:spcAft>
              <a:buClr>
                <a:srgbClr val="0099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Michael.Mahoney@opm.gov</a:t>
            </a:r>
            <a:r>
              <a:rPr b="0" lang="en-US" sz="2400" spc="-1" strike="noStrike">
                <a:solidFill>
                  <a:srgbClr val="4aabb2"/>
                </a:solidFill>
                <a:latin typeface="Times New Roman"/>
              </a:rPr>
              <a:t> – (202) 606-114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110000"/>
              </a:lnSpc>
              <a:spcBef>
                <a:spcPts val="1199"/>
              </a:spcBef>
              <a:spcAft>
                <a:spcPts val="1199"/>
              </a:spcAft>
              <a:buClr>
                <a:srgbClr val="0099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Dede.Dessommes@opm.gov</a:t>
            </a:r>
            <a:r>
              <a:rPr b="0" lang="en-US" sz="2400" spc="-1" strike="noStrike">
                <a:solidFill>
                  <a:srgbClr val="4aabb2"/>
                </a:solidFill>
                <a:latin typeface="Times New Roman"/>
              </a:rPr>
              <a:t> – (202) 606-217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0">
              <a:lnSpc>
                <a:spcPct val="11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0">
              <a:lnSpc>
                <a:spcPct val="11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0">
              <a:lnSpc>
                <a:spcPct val="11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F496-0189-4308-A944-AD4EE99ED30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18:30:01Z</dcterms:created>
  <dc:creator>Eileen Kessler</dc:creator>
  <dc:description/>
  <dc:language>en-US</dc:language>
  <cp:lastModifiedBy>OPM User</cp:lastModifiedBy>
  <dcterms:modified xsi:type="dcterms:W3CDTF">2006-09-25T19:56:49Z</dcterms:modified>
  <cp:revision>32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205525174</vt:r8>
  </property>
  <property fmtid="{D5CDD505-2E9C-101B-9397-08002B2CF9AE}" pid="3" name="_AuthorEmail">
    <vt:lpwstr>Dede.Dessommes@opm.gov</vt:lpwstr>
  </property>
  <property fmtid="{D5CDD505-2E9C-101B-9397-08002B2CF9AE}" pid="4" name="_AuthorEmailDisplayName">
    <vt:lpwstr>Dessommes, Dede M.</vt:lpwstr>
  </property>
  <property fmtid="{D5CDD505-2E9C-101B-9397-08002B2CF9AE}" pid="5" name="_EmailSubject">
    <vt:lpwstr>Sch A Reg - Revised Power Point Slides</vt:lpwstr>
  </property>
  <property fmtid="{D5CDD505-2E9C-101B-9397-08002B2CF9AE}" pid="6" name="_PreviousAdHocReviewCycleID">
    <vt:r8>972588356</vt:r8>
  </property>
</Properties>
</file>